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1D09-3357-4A56-9948-6C70E696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962-33D9-43FA-B648-6CBDDA73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A33-A3B6-42B4-98EF-F354C1D1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9CF-A214-4560-A00D-C76D78B5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C00-1FE9-40A0-BB26-C78A98CA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64E-3959-4094-B992-29CEE024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86E-81C8-45AE-8A60-CE7A189C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C60C-AC2A-4A99-B06D-837F0E61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96A-E98B-4BA4-A8D6-8D51EC28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AB7-9696-482A-9C2B-A5CAA8E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14A-D386-47C9-A0AE-E5ED2211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81D-373E-4E51-A536-55634F30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D161-71D5-418C-9F53-2E8A8AB51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2/Int 1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25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48428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ive a detailed explanation of development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Select your main weak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Describe your current level of performance of this sk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How does this affect you in a ga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Comic Sans MS"/>
              </a:rPr>
              <a:t>How will it help your performance if you develop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ving a weak overhead clear mea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484280"/>
            <a:ext cx="8458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en you perform this shot there is a chance your opponent may return with a smash.  Why is this a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do not have a defensive shot in your repertoire.  Why is this a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do not have a wide variety of shots.  Why is this a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ving a strong overhead clear mea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484280"/>
            <a:ext cx="8458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can force your opponent to the back of their court creating space to attack at the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can give yourself time to recover and set up for your next s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have an option from the back of the court to play your return to the back or the from of your opponents court and this makes you less predic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tension Tas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4842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scribe the overhead clear in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should be mention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ext We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4842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Friday you will be set into ability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ext week we will start working through progressive practices to improve your overhead cl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676520"/>
            <a:ext cx="815328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the end of this lesson you should a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se results from initial data gathering to analyse strengths and weaknesses i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se results from focused data gathering to analyse strengths and weaknesses i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lain your own developmenta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197000"/>
            <a:ext cx="84582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Complete questions 3 and 4 on lined A4 paper. Make sure that you are very detailed in your answers and write very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Write down the question before you answ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Use the wikipage to recap what we have covered and to see schedules. (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wikispaces.com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) (int2-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Due date – Wednesday 2</a:t>
            </a:r>
            <a:r>
              <a:rPr b="0" i="1" lang="en-GB" sz="2800" spc="-1" strike="noStrike" baseline="30000">
                <a:solidFill>
                  <a:srgbClr val="ffff00"/>
                </a:solidFill>
                <a:latin typeface="Comic Sans MS"/>
              </a:rPr>
              <a:t>nd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815328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the end of this lesson you should a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se results from initial data gathering to analyse strengths and weaknesses i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nalyse results from focused data gathering to analyse strengths and weaknesses i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lain your own developmenta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752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4.  EVALUATE - Reflect on the benefits of your programme of work and discuss future developm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426708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  ANALYSE - Explain how key concept knowledge helped you analys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144792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  INVESTIGATE - Explain how performance was investigated through colle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45720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3.  DEVELOP - Explain the content and suitability of the programme you wer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066680"/>
            <a:ext cx="3341520" cy="25146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457200"/>
            <a:ext cx="4114800" cy="7621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580560" y="601992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205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explanatio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of your strengths and weakness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nalysing D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06064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ou must go through each of your 3 schedules and identify strengths and weaknesses in your performance and explain what affect this has on your g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nalysing D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06064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ask 1 - As a class we will now write down strengths and weaknesses for an example player - player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 order to do this we must compare with a model perform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nalysing D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06064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ask 2 – You should now do this for your own performance using your own sched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ime – 10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For Question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268280"/>
            <a:ext cx="84582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Remember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Give a detailed explanation of your strengths and weakn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Take 3 strengths and weaknesses from each observation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Consideration of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Movemen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Scatter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Explain how these weaknesses affect you in a g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2050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development needs 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1-25T11:44:02Z</dcterms:modified>
  <cp:revision>26</cp:revision>
  <dc:subject/>
  <dc:title>Intermediate PE</dc:title>
</cp:coreProperties>
</file>